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8FF-01F3-48EC-9560-40F47EC4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E8C-D70A-4381-AD96-EF239DEC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589-3EA0-4D81-8DC3-76B8337E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033-3E9E-4C2D-9ADB-4384C8BB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5AB8-124E-40A1-8BC3-A51C826D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C484-22A4-47AF-8DB1-DFC5C676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4404-DD83-42E4-9690-29CB521B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EE2A-646E-4E60-A2ED-D507F1D9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82DE-9915-4A97-9F30-9E13C83C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A3CB-5E30-466C-B7B1-F64801B2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710F-1905-48D9-9FAC-34D8728E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E7CF-59F8-4FF6-9759-29621374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1E8A-32B3-4AE9-82C8-264E880E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4F00-D095-4627-BE58-1A88A7FF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E7AC-B806-4366-BEBD-9E3EE66A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5529-462A-4A01-9169-AC5B380C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5398-D598-4111-B43A-B015EFB0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274A-C0B5-4C42-AF51-589DFC64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0C6-2EAF-4FB6-B390-46446030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EA4-73F9-4D17-8FBE-22241B57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774-48BE-4FCB-8A68-EABCB453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9AE-F69C-4944-972A-41D84779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198-7410-4283-83BB-6D49329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E8A-4116-489D-9121-D542B7B5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7b4771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7b47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7b4771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7b47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7b4771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7b47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771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7b4771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756b9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756b9b"/>
                    </a:gs>
                    <a:gs pos="100000">
                      <a:srgbClr val="c0c0c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6b9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2A47-57C6-4701-8D65-590A1D392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7b4771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7b477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4771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b4771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6b9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756b9b"/>
                      </a:gs>
                      <a:gs pos="100000">
                        <a:srgbClr val="c0c0c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c0c0c0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6b9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756b9b"/>
                        </a:gs>
                        <a:gs pos="100000">
                          <a:srgbClr val="c0c0c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756b9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756b9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39a6d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03e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756b9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756b9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6b9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FA9F-1F6A-4F02-8541-D24E9443B56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3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AU" sz="8000" spc="-1" strike="noStrike">
                <a:solidFill>
                  <a:srgbClr val="000000"/>
                </a:solidFill>
                <a:latin typeface="Arial Black"/>
              </a:rPr>
              <a:t>Here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504960" y="48769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3cc"/>
                </a:solidFill>
                <a:latin typeface="Arial Black"/>
              </a:rPr>
              <a:t>It is clearly written here in one sentence in the tex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7" descr="MCj03972640000[1]"/>
          <p:cNvPicPr/>
          <p:nvPr/>
        </p:nvPicPr>
        <p:blipFill>
          <a:blip r:embed="rId1"/>
          <a:stretch/>
        </p:blipFill>
        <p:spPr>
          <a:xfrm>
            <a:off x="1187280" y="4870440"/>
            <a:ext cx="2305080" cy="1319400"/>
          </a:xfrm>
          <a:prstGeom prst="rect">
            <a:avLst/>
          </a:prstGeom>
          <a:ln w="0">
            <a:noFill/>
          </a:ln>
        </p:spPr>
      </p:pic>
      <p:sp>
        <p:nvSpPr>
          <p:cNvPr id="353" name="Line 11"/>
          <p:cNvSpPr/>
          <p:nvPr/>
        </p:nvSpPr>
        <p:spPr>
          <a:xfrm flipH="1" flipV="1">
            <a:off x="2700000" y="5373720"/>
            <a:ext cx="576360" cy="1008000"/>
          </a:xfrm>
          <a:prstGeom prst="line">
            <a:avLst/>
          </a:prstGeom>
          <a:ln w="142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2195640" y="5805360"/>
            <a:ext cx="504720" cy="576360"/>
          </a:xfrm>
          <a:prstGeom prst="rect">
            <a:avLst/>
          </a:prstGeom>
          <a:solidFill>
            <a:srgbClr val="e70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AU" sz="8000" spc="-1" strike="noStrike">
                <a:solidFill>
                  <a:srgbClr val="000000"/>
                </a:solidFill>
                <a:latin typeface="Arial Black"/>
              </a:rPr>
              <a:t>Hidden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09120" y="5105520"/>
            <a:ext cx="799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cc"/>
                </a:solidFill>
                <a:latin typeface="Arial Black"/>
              </a:rPr>
              <a:t>I can infer the meaning by joining clues together in the text</a:t>
            </a:r>
            <a:r>
              <a:rPr b="0" lang="en-AU" sz="2800" spc="-1" strike="noStrike">
                <a:solidFill>
                  <a:srgbClr val="ff3399"/>
                </a:solidFill>
                <a:latin typeface="Arial Black"/>
              </a:rPr>
              <a:t> and using my prior knowledg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4" descr="MCj03972640000[1]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1319400"/>
          </a:xfrm>
          <a:prstGeom prst="rect">
            <a:avLst/>
          </a:prstGeom>
          <a:ln w="0">
            <a:noFill/>
          </a:ln>
        </p:spPr>
      </p:pic>
      <p:sp>
        <p:nvSpPr>
          <p:cNvPr id="358" name="Line 5"/>
          <p:cNvSpPr/>
          <p:nvPr/>
        </p:nvSpPr>
        <p:spPr>
          <a:xfrm flipH="1">
            <a:off x="1979640" y="765000"/>
            <a:ext cx="2016000" cy="0"/>
          </a:xfrm>
          <a:prstGeom prst="line">
            <a:avLst/>
          </a:prstGeom>
          <a:ln w="142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6" descr="MCj04316010000[1]"/>
          <p:cNvPicPr/>
          <p:nvPr/>
        </p:nvPicPr>
        <p:blipFill>
          <a:blip r:embed="rId2"/>
          <a:stretch/>
        </p:blipFill>
        <p:spPr>
          <a:xfrm>
            <a:off x="3564000" y="189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60" name="Line 7"/>
          <p:cNvSpPr/>
          <p:nvPr/>
        </p:nvSpPr>
        <p:spPr>
          <a:xfrm flipH="1" flipV="1">
            <a:off x="900000" y="1052280"/>
            <a:ext cx="287280" cy="1439640"/>
          </a:xfrm>
          <a:prstGeom prst="line">
            <a:avLst/>
          </a:prstGeom>
          <a:ln w="142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1476360" y="1341360"/>
            <a:ext cx="574560" cy="503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a6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AU" sz="8000" spc="-1" strike="noStrike">
                <a:solidFill>
                  <a:srgbClr val="000000"/>
                </a:solidFill>
                <a:latin typeface="Arial Black"/>
              </a:rPr>
              <a:t>Head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4648320"/>
            <a:ext cx="799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I can use what I already know in my head- my prior knowledg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Line 5"/>
          <p:cNvSpPr/>
          <p:nvPr/>
        </p:nvSpPr>
        <p:spPr>
          <a:xfrm flipH="1">
            <a:off x="1979640" y="765000"/>
            <a:ext cx="2016000" cy="0"/>
          </a:xfrm>
          <a:prstGeom prst="line">
            <a:avLst/>
          </a:prstGeom>
          <a:ln w="142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Picture 6" descr="MCj04316010000[1]"/>
          <p:cNvPicPr/>
          <p:nvPr/>
        </p:nvPicPr>
        <p:blipFill>
          <a:blip r:embed="rId1"/>
          <a:stretch/>
        </p:blipFill>
        <p:spPr>
          <a:xfrm>
            <a:off x="324000" y="333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0" lang="en-US" sz="9000" spc="-1" strike="noStrike">
                <a:solidFill>
                  <a:srgbClr val="ffffff"/>
                </a:solidFill>
                <a:latin typeface="Arial Black"/>
              </a:rPr>
              <a:t>3H</a:t>
            </a:r>
            <a:endParaRPr b="0" lang="en-US" sz="9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Rectangle 3" descr=""/>
          <p:cNvPicPr/>
          <p:nvPr/>
        </p:nvPicPr>
        <p:blipFill>
          <a:blip r:embed="rId1"/>
          <a:stretch/>
        </p:blipFill>
        <p:spPr>
          <a:xfrm>
            <a:off x="682560" y="1920960"/>
            <a:ext cx="7778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8:10:42Z</dcterms:created>
  <dc:creator>Geoff Smith</dc:creator>
  <dc:description/>
  <dc:language>en-US</dc:language>
  <cp:lastModifiedBy>Kylie Lipscombe</cp:lastModifiedBy>
  <dcterms:modified xsi:type="dcterms:W3CDTF">2009-08-23T07:13:25Z</dcterms:modified>
  <cp:revision>5</cp:revision>
  <dc:subject/>
  <dc:title>     Here</dc:title>
</cp:coreProperties>
</file>